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E4C-B3D7-4CB0-A97B-CEFF4297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A9E-0397-46F3-9213-F70496A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4569-89E2-4C55-B985-05AC11E0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D0722-BA95-46EE-AD30-D242405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3A776-8491-4ADA-BC24-929731A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4D028-885D-4526-966C-37D5D48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FE26A-D16B-4442-BDA0-CD641810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DA832-35F6-47A1-8AFF-DF312A5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17E3-373C-48CA-8B56-7455305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24F71-3BBB-451C-9463-7D31F1B1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C0FB-67E8-4AEE-B3AD-F8FDFBAF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E1AA-D73E-4D74-BF63-4B7C1F35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423-A1F3-4DE1-8458-AA847B8B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63575-6A20-43F5-8562-89A016D6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6A24C-D290-4C82-9C64-A87D0CD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ABFC1-8697-4E6C-BDDF-CDD4012B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5E6B9-85D9-4D26-BCB7-1A5CA0C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30212-FA59-480B-903F-021C798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762A8-A412-466D-BC41-0C98004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E8ED5-9E22-4999-86B4-D064E33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B27F1-4F4C-44F8-954B-81BCAFE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19C01-F062-4499-9518-3739DC0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F05E9-D2BB-4A65-A11D-F52125AF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7F6-778E-4A50-B14E-5059AAF2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4AE7-050B-465D-BD58-5177265B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375F2-FBD4-4AFC-802B-DB23EAE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27CE-1DFD-4457-8DFC-B53CD76F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EA4CD-BC2F-4C8E-A280-D45C08B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D201F-7477-42B1-BD68-F26AC783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70441-AA20-4A8D-85F1-7704EC3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37A82-2FF3-4EAB-8E17-D23E200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EB8C-FD59-4B3A-AC08-637C4880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C220-4A0E-4ABB-BE66-8D8A8B1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D898-765F-4E60-B09F-66B2424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F4D7-9848-4004-9438-D1C2DF87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6C14C-34D8-438F-A447-6CBDEA6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03D3-E747-48D3-BDA0-5A9F0834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5FEC0-A3C9-4A0F-AD62-E920E188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458A2-B023-4272-B1A9-C089C49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5F326-7FA6-4A31-842B-1A72367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F875C-F4E4-4D08-8556-254869F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855C8-A4D5-41CF-8A3A-AAA65F1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955A1-93E8-41F4-96E6-CCEF745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927F1-37BE-45C6-91C9-18DDF08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392A0-4A5E-49EC-83BC-DC17AA4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BBF8-1076-4076-829A-0BDEF3D2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0EC84-CE4A-4EC4-A452-0C741BD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9C531-0867-4663-AB18-5A56499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A73A0-4B50-451F-A2C4-11FEAD1B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AFF8-B831-4BD9-9749-6AA69ADF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74CDC-71A7-4B0E-9EAB-6A4E409D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B76-F5FA-44C9-8FC3-C133B46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39DE-0942-423F-9475-F283204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510-C183-4D27-85EB-EF975D2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464-DB14-4C3C-B47F-F881685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8C84-A3CC-496D-BE26-70DD784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C1C-CE86-481B-9D72-F10EBE05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12B1-9D14-496E-B249-AF9ECEA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45C-FE6F-483B-9949-FB604E4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93A-6423-4E4A-93E9-0703BF5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532F-C988-4D8F-BD27-84E11ED3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90A3-1880-4CBA-9F96-4ABBBF97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EF32-C288-4E99-8619-86B86434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44B5-2B08-4033-B110-174D4E8C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9059-39AA-4523-80C7-5EA24E3C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8239-F205-4EF1-A717-5BF7019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BF26-9FCB-4B36-B904-FE5AA4FD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CFB-6A10-4F6C-9258-78BDFA0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DADE-AAFD-4970-8AD8-FD9FEE9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877D-4074-4B6F-AB7B-828549F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2D4B-AA0F-4B3A-B233-5365E7D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C4CC-13B0-45EB-A934-D5C0816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3986-4060-4058-BDCC-3D05BF8B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BD68-B4AA-4EE3-9DAA-3E413189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17C9-71ED-4A07-B761-2F6E7756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7788-7D46-4DE7-85D7-6440C12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DF09-49D5-4BAC-B061-11137AD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AAE6-37F9-4886-B9F3-1707A12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0A8-79DE-4154-BFC7-8284065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66FA-05A4-4770-9252-2B9620B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3CF8-DCFA-465A-8C08-B61C1A8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E057-F377-44B7-BC90-DF24A824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FE10-8BDE-48AD-96E3-7A47CE2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682C-C2A0-4A02-A5B6-357C3CE9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9F43-5316-4C2A-BE46-04950A4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0D90-70E2-472C-AA2F-C4444AD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0C1B-BD54-47FB-AE58-9A8B687B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CF1A-66E8-4308-8048-04519704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EE32-7A19-4A88-9609-89172113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7C6-417A-45B6-86A3-FD6B910F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A2D5-8F7C-4B7D-8BAB-7E32878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4772-26ED-4696-9442-7546290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BEE1-F7F7-49CD-8911-D4221B8A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79E2-B186-4508-A92F-1CF58A5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1E3D-8D0B-4A0F-AD73-289E5B92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ADB4-E631-4A3D-B1BE-10F39AA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94C3-9C1B-4141-8777-26189E0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AF0A-6B8B-4296-9995-2861229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DC45-90F1-4F3D-98AC-E6251995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BDE7-2ACE-4614-B1B6-7E3B0A7C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62E-A829-41ED-B182-9C72A6A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616B-D80A-4917-907C-6A752D46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528D9-DBCD-43E1-AC33-B2B85837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0531-F31C-4AA4-A519-A6D66410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C8C1-2DB1-4FD6-96FF-2C4D3134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C074-3CEA-4CB6-86DD-7BB2D91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07FC-C46C-408F-A25A-D2C87105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0B98-6E25-4582-811C-31813D5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F3E2-4D02-4CCE-A9DD-E935F368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6BCB-D6A8-4D5F-B414-397D8BE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7945F-911B-4ACC-94B9-579D502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821-8204-49CC-BA0D-63440F68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A15A-4A4E-4597-BD35-4DD65187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D9ED-A97E-4679-A5FB-88D27722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E165-1B24-4053-B0F5-876F780E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DFE4-8449-49FC-81CA-F8F7F6B5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7B9C-DD6B-4F68-B01A-CF2B5FEB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EDF9-8A28-4004-A12A-57E2A7BB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367E-CFBD-463D-B728-A424596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78DB-7605-4843-8391-EB4D8571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A010-B740-4645-AD67-BA1188D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9BDC-D56B-4220-810F-F99975A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35D-6EAE-4378-B035-83590CA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8393-158C-4448-99F3-6298489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F536-4FD4-45EB-92DC-06557A8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F28E-4292-413F-A797-F1344EC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0817-0E27-40B6-95B5-8C25B2E5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97211-5290-4815-A8FF-581DD43F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101FD-FC9A-455A-B24E-9AD0D19E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5615-20FD-4155-95D5-DA40A4D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2539-E91C-4EB3-B67A-A22221A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5200-4684-4CC6-BBC8-C1E508A2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3EA4-7E51-4F6E-AB4A-ECA2AF10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218-4B1E-42F7-A385-429E938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07D72-C344-4633-B0DF-E40EF182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58C1-FE69-4981-AE48-4342B48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3B84-6A43-407C-8216-37FF5D8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FE92-4203-4524-801C-3B5D47B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E08F4-59D1-4D5A-A424-CE60292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D057-EA37-405A-9D91-816741DF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A22F-21C3-42F8-AC74-BC0140FC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5C8A-784F-4158-84F1-5089D0D0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720B7-7B34-4252-B7C9-64D4FE9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CCE3-396D-433F-BC77-34E5BAF4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477-9791-4C3C-A576-A8EEC7230B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D6F-1933-4689-A7BE-478863D0D5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167-3C30-4BCC-9F8E-B0650BB08D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5BB4-594D-4B4C-A898-CE10841D07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A42F-A5A9-43B7-8DFC-EE6F0CA167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89D-78E6-46C1-B537-2F2713F9AB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057-8423-4DFC-BA9D-FEEA31FEE1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069F-2EC0-40BA-B3C4-F2BF0C7F4C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14F-E96C-4273-9710-9A8838D177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C0A-0BBE-4DC6-A429-3E9521816B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BC5-D459-4C87-95C4-A9FDA91D40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8F77-A7D7-4A52-9B5D-5DF5744114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5 Mám v Božom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y zdroj st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u zvesť o spás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Ote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ju poznať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Vykupiteľ k ná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ávy jas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koro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nás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u vďaku, č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y zdroj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vetlom m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com bezpeč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udúcnosť mrak čier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to ha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eľ viery v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e nestra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i zdroj čis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javil nám Bo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ej lásky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zácnejšie nad všet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a zis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 rozjasnil 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1T13:39:52Z</dcterms:modified>
  <cp:revision>21</cp:revision>
  <dc:subject/>
  <dc:title>Je veľký náš Pán, on slávy je Kráľ Nech do všetkých strán  spev vrúcnych znie chvál.</dc:title>
</cp:coreProperties>
</file>